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CE40-3B03-4248-B5DB-F07357A72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53C5-3525-49F1-A450-6693F0819C7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5969-D174-4047-B19A-E58E3B9EE16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E1A0-BD47-4B49-99D8-35505061383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86C-DA4F-4939-9D51-549E0C43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DCF-C3A1-490D-9D29-B70CF7C6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2634-28C6-4E5A-8305-F79881F1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7D41-2D3F-42D8-8C32-848AC552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0B9F-2BFC-4134-A705-230810DE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CEC7-DBB5-4BBC-A9DE-8E61DF87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3E7F-BCB2-4F1D-B38E-42051264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1BF9-2586-4C04-8FFB-00B1FD5E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33C6-BC77-43B4-9177-F62BEAD2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CCA6-780D-4731-8391-4EB115DF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1A37-29C2-450F-8418-E52349B2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F0EB-23A8-4B94-A320-04049095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F53F-4DD5-4E94-B8F9-B5821C3E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37EA-B709-49AE-A0D6-CD823B74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41FE-9AF9-4D04-9D00-F08A1BB7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2914-FFF8-4CE7-BE39-66AE006E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8318-3B81-48EA-B97B-434783D3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E87-5A35-4358-83E5-03D17AE3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AA57-8101-4226-A883-F569CF8B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28D5-0519-438A-9D85-56A09FB1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9B2-4CB9-42DE-B0B7-CF7475BE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B462-4EAC-4DE4-B74B-4E014B24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0C07-C29D-4D77-AD93-A63E0691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A89-3227-4862-970F-FAA3C739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6FFA-E229-4307-B387-9A7021640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4A69-AD25-4520-8B09-A709C8532D6A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ssessing Texts to Plan and Differentiate Instru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Now apply these ideas and practices to your texts…by planning and teaching a </a:t>
            </a:r>
            <a:br>
              <a:rPr sz="3200"/>
            </a:b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small group lesson (with a lesson guide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22" name="Picture 3" descr="Screen shot 2011-09-26 at 7.50.04 PM.png"/>
          <p:cNvPicPr/>
          <p:nvPr/>
        </p:nvPicPr>
        <p:blipFill>
          <a:blip r:embed="rId1"/>
          <a:stretch/>
        </p:blipFill>
        <p:spPr>
          <a:xfrm>
            <a:off x="914400" y="2057400"/>
            <a:ext cx="2971800" cy="3776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Screen shot 2011-09-26 at 7.50.29 PM.png"/>
          <p:cNvPicPr/>
          <p:nvPr/>
        </p:nvPicPr>
        <p:blipFill>
          <a:blip r:embed="rId2"/>
          <a:stretch/>
        </p:blipFill>
        <p:spPr>
          <a:xfrm>
            <a:off x="4419720" y="2057400"/>
            <a:ext cx="392436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ke initial plans for lesson you will teach about your text on Tuesday, Oct. 9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ad Common Core Standards materials in relation to this task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6" name="Picture 3" descr="Screen shot 2012-09-30 at 12.35.05 PM.png"/>
          <p:cNvPicPr/>
          <p:nvPr/>
        </p:nvPicPr>
        <p:blipFill>
          <a:blip r:embed="rId3"/>
          <a:stretch/>
        </p:blipFill>
        <p:spPr>
          <a:xfrm>
            <a:off x="1066680" y="3962520"/>
            <a:ext cx="67057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Synthesize key ideas about </a:t>
            </a: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narrative and expository text structures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4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Textbook, Karen Wixson, and Barbara Moss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See a model of explicit instruction around expository text (I Do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Practice planning explicit instruction around expository text (We Do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Connect with more practice and application of ideas to your group’s text (You Do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urn and Tal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are th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difference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etween narrative and expository texts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ich texts ar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ore challenging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o readers and why?  Use evidence from your readings to support your reasoning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 this context, what do you think is the meaning of the phrase “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fourth grade slump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” 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How might we counteract the fourth grade slump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Exposure to more informational texts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(Wixson)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Increases vocab, comprehension, motivation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Builds knowledge of expository text structures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Improves reading, writing, content knowledge and home-school literacy connections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0000"/>
                </a:solidFill>
                <a:latin typeface="Arial"/>
              </a:rPr>
              <a:t>Exposure and explicit instruction 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(Moss)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Model and practice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retelling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 as precursor to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synthesis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Attend to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text structure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,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signal words,</a:t>
            </a:r>
            <a:r>
              <a:rPr b="0" lang="en-US" sz="23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relationships between ideas 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30000"/>
                </a:solidFill>
                <a:uFillTx/>
                <a:latin typeface="Arial"/>
              </a:rPr>
              <a:t>Take advantage of enthusiasm and link to real world</a:t>
            </a:r>
            <a:endParaRPr b="0" lang="en-US" sz="23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arrative Texts </a:t>
            </a: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(tell a story) …</a:t>
            </a:r>
            <a:br>
              <a:rPr sz="2400"/>
            </a:b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(characters confront problems &gt; which sets up a plot)</a:t>
            </a:r>
            <a:endParaRPr b="0" lang="en-US" sz="2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etting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en and where does the story take place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racter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o is the story about? Who wants something?  By the end, who changes the most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lot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s the problem? What happened? Why? How was the problem solved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heme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s the text really about? What’s the universal message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oint of view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o is telling the story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tylistic Elements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are words used in special ways (e.g., fig. lang, mood, humor, irony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pository texts (to explain, inform, or persuade)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Nonfiction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accurate)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Vs Informationa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blends non-fiction with some narrative element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Expositional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= “explanatory” writing with common thinking patterns &gt; which pattern(s) does the author use to make his arguments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are the common expository text patterns?  What signal words are associated with each pattern?  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pository Text Patter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22860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mpare/Contras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ause/Effec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escription/Explan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quenc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roblem-Solu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588920" y="2357280"/>
            <a:ext cx="338400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oth, in contrast, while.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587480" y="2971800"/>
            <a:ext cx="325008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, therefore; if/then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589280" y="3805200"/>
            <a:ext cx="322884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or example; details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592160" y="4572000"/>
            <a:ext cx="392508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irst, second, next, finally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590720" y="5253120"/>
            <a:ext cx="4092840" cy="459720"/>
          </a:xfrm>
          <a:prstGeom prst="rect">
            <a:avLst/>
          </a:prstGeom>
          <a:noFill/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blem, question, answer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cxnSp>
        <p:nvCxnSpPr>
          <p:cNvPr id="110" name="Straight Arrow Connector 11"/>
          <p:cNvCxnSpPr>
            <a:endCxn id="105" idx="1"/>
          </p:cNvCxnSpPr>
          <p:nvPr/>
        </p:nvCxnSpPr>
        <p:spPr>
          <a:xfrm flipV="1">
            <a:off x="4191120" y="2588400"/>
            <a:ext cx="381600" cy="252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1" name="Straight Arrow Connector 12"/>
          <p:cNvCxnSpPr>
            <a:endCxn id="106" idx="1"/>
          </p:cNvCxnSpPr>
          <p:nvPr/>
        </p:nvCxnSpPr>
        <p:spPr>
          <a:xfrm>
            <a:off x="3428640" y="3201480"/>
            <a:ext cx="1143720" cy="108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2" name="Straight Arrow Connector 14"/>
          <p:cNvCxnSpPr/>
          <p:nvPr/>
        </p:nvCxnSpPr>
        <p:spPr>
          <a:xfrm flipV="1">
            <a:off x="3124080" y="4037760"/>
            <a:ext cx="1372320" cy="252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3" name="Straight Arrow Connector 16"/>
          <p:cNvCxnSpPr/>
          <p:nvPr/>
        </p:nvCxnSpPr>
        <p:spPr>
          <a:xfrm flipV="1">
            <a:off x="2895120" y="4876560"/>
            <a:ext cx="1600920" cy="216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  <p:cxnSp>
        <p:nvCxnSpPr>
          <p:cNvPr id="114" name="Straight Arrow Connector 18"/>
          <p:cNvCxnSpPr/>
          <p:nvPr/>
        </p:nvCxnSpPr>
        <p:spPr>
          <a:xfrm flipV="1">
            <a:off x="4114800" y="5486040"/>
            <a:ext cx="381600" cy="216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Modeling Explicit Instruction of Expository Text Comprehension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6" name="Picture 3" descr="Screen shot 2012-09-30 at 11.22.13 AM.png"/>
          <p:cNvPicPr/>
          <p:nvPr/>
        </p:nvPicPr>
        <p:blipFill>
          <a:blip r:embed="rId1"/>
          <a:stretch/>
        </p:blipFill>
        <p:spPr>
          <a:xfrm>
            <a:off x="533520" y="2133720"/>
            <a:ext cx="3043080" cy="38862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3764880" y="1905120"/>
            <a:ext cx="49068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an you imagine digging a hole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 your backyard to plant some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lowers and, to your surprise,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you uncover treasures from 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re than 1,000 years ago?? </a:t>
            </a:r>
            <a:br>
              <a:rPr sz="2400"/>
            </a:b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would you do?  Would you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tell anyone?  Why or why not?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Let’s read The First Discovery to find out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happened when a farmer named 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Enzecchetta digs out a well in southern 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taly to discover something unbelievable!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ow you try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Use what you’ve learned about narrative and expository text features AND how to scaffold understanding of challenging text to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Locate &amp; note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llenging feature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/or content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pose an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nstructional practice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at could be used to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explicitly teach about expository text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ile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building comprehension and motivation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o read further at each of these challenging point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dentify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hen in the teaching cycle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you would integrate this practice (before, during, and/or after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0" name="Picture 3" descr="Screen shot 2012-09-30 at 11.22.13 AM.png"/>
          <p:cNvPicPr/>
          <p:nvPr/>
        </p:nvPicPr>
        <p:blipFill>
          <a:blip r:embed="rId3"/>
          <a:stretch/>
        </p:blipFill>
        <p:spPr>
          <a:xfrm>
            <a:off x="7467480" y="685800"/>
            <a:ext cx="1373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4:24:04Z</dcterms:created>
  <dc:creator>Julie Coiro</dc:creator>
  <dc:description/>
  <dc:language>en-US</dc:language>
  <cp:lastModifiedBy>Julie Coiro</cp:lastModifiedBy>
  <dcterms:modified xsi:type="dcterms:W3CDTF">2012-09-30T16:36:06Z</dcterms:modified>
  <cp:revision>208</cp:revision>
  <dc:subject/>
  <dc:title>Metacognitive Strategy Instruction to Enhance Reading Comprehension</dc:title>
</cp:coreProperties>
</file>